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Методы и этапы обработки докум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бота с исходящими документами, как инициативными, так и ответными, заключается: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готовке проекта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оформлении и согласовании (визирован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стове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е из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окументы, подлежащие отправке, должны обрабатываться в день их поступления в службу ДОУ.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этом дополнительно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адресов рассылки на самом документе или на отдельном ли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необходимого числа копий, без учета экземпляра, остающегося в офи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точняется форма отправки корреспонденции: курьерская, телеграфная, электронная, электрографическая (факс), почтовая; в последнем случае важен вид почтового отправления: бандероль, простое, заказное, ценное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кспедиционная обработка отправляемых документов включает в себ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5100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тировку почты по корреспондент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аковку и оформление почтового от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у корреспонденции в отделени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ичины увеличения объемов документов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2836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ъективные причин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52760"/>
            <a:ext cx="27273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лияние научно-технического прогр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экономики, расширение и усложнение номенклатуры выпускаемой проду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воение новых рай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роительство новых объектов и, как результат, усложнение процессов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5280" y="763200"/>
            <a:ext cx="4041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Субъективные прич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20560" y="1164960"/>
            <a:ext cx="546588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ение количества проверяющих инстанций, контролирующих орга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щемление и игнорирование законных прав гражда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валифицированное документирование управленческ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нание или несоблюдение работниками управленческих структур законодательства, нормативных актов, устанавливающих юридические требования к оформлению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своевременное, некачественное выполнение заданий, поручений, договорных обязательств или срыв сроков их испол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у подчиненных организаций или структурных подразделений права решать задачи, входящие в их компетенц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омпетентность управленческого персонала в решении производственных, экономических, управленческих зад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в аппарате управления регламентации документ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ирокое распространение копировальной техники и ее бесконтрольное исполь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чительному увеличению количества документов, т.к. один и тот же документ часто создается и в бумажной, и в электронной фор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подсчете и анализе документооборота необходимо иметь в виду, что:</a:t>
            </a: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дения об объеме документооборота, как правило, занижены из-за несовершенной методики их сб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и по себе цифры, обозначающие количество документов, не могут характеризовать эффективность системы документооборота и управления в це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у и анализу полученных сведений должна предшествовать постановка задач: с какой целью собираются сведения, какой хронологический период и какая глубина проведения учета необходимы, каково будет их дальнейшее использ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птимизация системы документооборота основывается на положениях, выработанных, как правило, практикой делопроизводства и научной организацией труда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м возвратного движ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кратность пребывания документа в одном структурном подразделении или у одного исполните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той или иной инстанции должно быть строго обусловлено необходимостью обработки документ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ные операции должны выполняться параллельно для сокращения времени движения документов и повышения оперативности их исполн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но-информационные сведения о ходе движения и исполнения документов, результат контроля и др. следует передавать в службу делопроизводства с помощью регистрационных карточек, электронных сообщений, бездокументными способами (устно, по телефону), исключая возвратное движение самих доку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окументооборот. Определение, характеристика основных документопото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авила организации документооборота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авила приёма и обработки поступающей корреспонденции, их влияние на организацию движения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правление документов на исп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сновные направления совершенствования документообор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326C-B9B4-4477-8642-FC4F5CA82CE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9383-156E-4517-B2BD-7253CC7919E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Технологическая цепочка движения и обработки документов состоит из ряда этапов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ма и первичной обработ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ого рассмотрения и распреде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на исполнение и исполн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ормления и удостовер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документообороте, или порядке движения документов в организации, выделяется несколько этап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онная обработка документов, поступающих в организацию, и фиксация самого факта их по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рассмотрение документов службой Д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вижения документов внутри организации, включая доведение документов до исполнителей и придание юридической силы проектам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ботка исполненных и отправляем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вскрытии корреспонденции упаковка (конверты) уничтожаются, исключения делаются только в следующих случаях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полученных документах нет обратного адреса и фамилии отправителя, но они есть на упак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документе не проставлена дата и ее приходится устанавливать по почтовому штемпе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олученный документ по смыслу носит личный характер, а на упаковке (конверте) грифа «Лично» не бы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желании взыскать с корреспондента доплату почтовому вед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 поступающих документах проставляется отметка (штампом или от руки), включающая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менование 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а посту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учетный номер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обходимости количество листов и подпись сотруд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диспетчеризации поступивших документов учит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сть содерж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 документа: закон, распоряжение, письмо, отчет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ть и новизна поставленны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ство,   т. е.   общественное   положение   лица  -   автора документа,   место учреждения-отправителя в структуре управления, роль общественной организации в жизни об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ьная срочность исполнения докум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Эффективную помощь при предварительном рассмотрении корреспонденции оказывают внутренние справочные материал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2372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перечень документов, требующих обязательного рассмотрения руковод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лжностных лиц и их обяза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графические схемы последовательности экспедиционной обработки и распределения различных поступающих документов и т.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рассмотрение корреспонденции руководителем обычно применяется следующая технология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ы передаются руководителем и посетителями по его просьбе секретар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ари руководителей по мере поступления к ним документов от руководителей заполняют специальную информационную форму (лист, карточку, экранный формат), в которую вносят сведения о номере и дате документа, содержании резолюции, сроке исполнения и исполнителе (подразделении), которому передают документ на испол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рабочего дня информационные листы секретарей всех руководителей поступают в службу документационного обеспечения, и на их основании дополняются сведения в информационно-поисковой системе организации. Такая технология в делопроизводственной практике получила название «переметк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3:07:47Z</dcterms:modified>
  <cp:revision>138</cp:revision>
  <dc:subject/>
  <dc:title>Lecture Template </dc:title>
</cp:coreProperties>
</file>